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2f2377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003D28-B68B-4CA9-83B4-C625A2515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transit is something we all have to deal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nd less parking due to less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transit is something we all have to deal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nd less parking due to less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wbrook Mall Park and 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Bus 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bus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between local, NYC and Newark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es at least every half-hour to NYC, on Weekends every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0 commuter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11 has increased comm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lots along the routes have closed to comm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ns closed and was replaced with Bloomingd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uring construction commuters were parking next to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0 comm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wbrook under pressure from Bloomingdales reduced spaces to original 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engers is at 1680 to include 5% people being dropped o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80 commuters includes people being dropped o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0465-46FE-47EA-9A6F-A44F26C5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3947-0C65-4D01-A910-68CF98B9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5D0A-87B5-4268-AB57-0A34264E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84F-B65A-4C18-B9EB-D7FD31C5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7384-3A29-440F-8D88-80C11EF3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82D1-0CE3-4B6E-A49E-69990C0F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C74B-6EE2-4902-8F09-69A46535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73C4-E446-4B1D-8DCC-084A9961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E659-27B3-4692-939F-12738BB2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67BE-96F2-4835-B72B-211391B7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014C-6E4A-4217-B23B-305D67D0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4DB-F335-4DD4-BF54-714249D4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07EE-E110-420C-89BB-845427A7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7AD2-D930-4CAB-A677-9430B129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369B-65F6-4000-801F-1ACD3653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7776-DDF9-436B-9652-3316F142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B09B-70B0-4018-8710-E3865C42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34E-4C64-4DD8-AA33-014C5176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066-4583-4C59-8D7F-53AB8F13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17F-919A-400A-9735-9431BDBE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813-B1E0-4793-A6D3-F7F26D52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40D3-4005-4270-92C6-F5455EF7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D470-9DCE-4CA0-80AD-327CA73C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59C-AA44-4C99-A855-8C5BCE21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23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c0066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e76f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f237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6848-B079-4308-BEF6-8589C4FE12C0}" type="slidenum">
              <a:rPr b="0" lang="en-US" sz="10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e76f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2f2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aa1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2f23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2f2377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4460-E141-41D9-AB84-F26971F78DFD}" type="slidenum">
              <a:rPr b="0" lang="en-US" sz="10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e76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2f2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cc0066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e76f1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2f2377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2f2377"/>
                </a:solidFill>
                <a:latin typeface="Garamond"/>
              </a:rPr>
              <a:t>Modeling Bus Schedules</a:t>
            </a: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Kevin Chen</a:t>
            </a: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Hui Shao</a:t>
            </a: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Ailish Ryan</a:t>
            </a: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Nancy Simon</a:t>
            </a: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Robert Stanich</a:t>
            </a: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19320" y="285840"/>
            <a:ext cx="683892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4492800"/>
            <a:ext cx="8077320" cy="190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1280" y="3276720"/>
            <a:ext cx="8075520" cy="1444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9480" y="1143000"/>
            <a:ext cx="8077320" cy="23907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5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f2377"/>
                </a:solidFill>
                <a:uFillTx/>
                <a:latin typeface="Garamond"/>
              </a:rPr>
              <a:t>Model Details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3809880"/>
            <a:ext cx="3353040" cy="9144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5257800"/>
            <a:ext cx="3352680" cy="9144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Bus Tracking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1280" y="1611360"/>
            <a:ext cx="6323040" cy="604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2120" y="3276720"/>
            <a:ext cx="5486400" cy="4572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105520"/>
            <a:ext cx="2743200" cy="4572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1280" y="2290680"/>
            <a:ext cx="6323040" cy="1909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82296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Statistics and Forecast Cells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4764240" cy="2476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3352680" cy="2955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29200" y="3657600"/>
            <a:ext cx="342900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Bus Departures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0880" y="2168640"/>
            <a:ext cx="8382240" cy="27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Results: Optimized Schedule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1560" y="1589040"/>
            <a:ext cx="75517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Results: Performance Measures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505320" cy="2176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505320" cy="2176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85800" y="4527720"/>
            <a:ext cx="3505320" cy="217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800600" y="4495680"/>
            <a:ext cx="3505320" cy="2176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66680" y="1447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ean Wait: 3.13 M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1447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ean Interval: 6.5 M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4129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ax. Wait: 7.9 M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4114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Buses Req.: 23 [mode]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Lessons Learned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art Simpl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dd Incremental Layers of Complexity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odel is Approximatio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udit Extensively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Watch Out for Zero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Values! Use Filter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ore Than One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“Way to Go.”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919760" y="3200400"/>
            <a:ext cx="384336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2f2377"/>
                </a:solidFill>
                <a:latin typeface="Garamond"/>
              </a:rPr>
              <a:t>Modeling Bus Schedules</a:t>
            </a: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9528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Verdana"/>
              </a:rPr>
              <a:t>Q&amp;A</a:t>
            </a:r>
            <a:endParaRPr b="0" lang="en-US" sz="9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3892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68436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934320" y="0"/>
            <a:ext cx="2209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Willowbrook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Park and Rid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Verdana"/>
              </a:rPr>
              <a:t>Legend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reen –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800 Original Spac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Blue –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400 Overflow Spac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d –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400 Extra Spac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Willowbrook Mall Park And Ride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ajor Bus Hub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llocated 800 Commuter Spaces With 400 Overflow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Using 1600 Spaces!!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erns becomes Bloomingdal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Willowbrook Mall Enforces Original 800 Spac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Mothers Park and Ride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Only Few Miles Away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900 Spac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cheduling is More Complicated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rvicing Both Location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Limited Service - Only Rush Hour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Is There a Better Solution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Constraints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36480" y="1960560"/>
          <a:ext cx="7685280" cy="262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1960560"/>
                    <a:ext cx="768528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Constraints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1680 commuters during the peak hours (5:00 am - 8:30 am)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23 buses available to this route during peak hours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bus holds 57 passengers – buses leave once full or have been standing 8 minutes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eak hours roundtrip – beta distribution with a mean of 122 minutes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377"/>
                </a:solidFill>
                <a:latin typeface="Garamond"/>
              </a:rPr>
              <a:t>Random Variable (1):</a:t>
            </a:r>
            <a:br>
              <a:rPr sz="4800"/>
            </a:br>
            <a:r>
              <a:rPr b="0" lang="en-US" sz="2500" spc="-1" strike="noStrike">
                <a:solidFill>
                  <a:srgbClr val="2f2377"/>
                </a:solidFill>
                <a:latin typeface="Garamond"/>
              </a:rPr>
              <a:t>– Round Trip Time</a:t>
            </a:r>
            <a:endParaRPr b="0" lang="en-US" sz="2500" spc="-1" strike="noStrike">
              <a:solidFill>
                <a:srgbClr val="2f2377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29000" y="3886200"/>
          <a:ext cx="5257800" cy="2387520"/>
        </p:xfrm>
        <a:graphic>
          <a:graphicData uri="http://schemas.openxmlformats.org/drawingml/2006/table">
            <a:tbl>
              <a:tblPr/>
              <a:tblGrid>
                <a:gridCol w="2039760"/>
                <a:gridCol w="3218040"/>
              </a:tblGrid>
              <a:tr h="246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onstraints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ax Bus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ax Queu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7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ax Wait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und Trip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2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6019920" cy="39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908000"/>
            <a:ext cx="5713560" cy="36496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377"/>
                </a:solidFill>
                <a:latin typeface="Garamond"/>
              </a:rPr>
              <a:t>Random Variable (2):</a:t>
            </a:r>
            <a:br>
              <a:rPr sz="4800"/>
            </a:br>
            <a:r>
              <a:rPr b="0" lang="en-US" sz="2500" spc="-1" strike="noStrike">
                <a:solidFill>
                  <a:srgbClr val="2f2377"/>
                </a:solidFill>
                <a:latin typeface="Garamond"/>
              </a:rPr>
              <a:t>– Passenger Arrival Time</a:t>
            </a:r>
            <a:endParaRPr b="0" lang="en-US" sz="25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5029200" cy="33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Estimating Passenger Arrival Rate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2666880"/>
            <a:ext cx="8001000" cy="255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3:44:37Z</dcterms:created>
  <dc:creator>Nancy Simon</dc:creator>
  <dc:description/>
  <dc:language>en-US</dc:language>
  <cp:lastModifiedBy>Kevin Chen</cp:lastModifiedBy>
  <dcterms:modified xsi:type="dcterms:W3CDTF">2002-12-12T05:44:28Z</dcterms:modified>
  <cp:revision>17</cp:revision>
  <dc:subject/>
  <dc:title>Introduction</dc:title>
</cp:coreProperties>
</file>